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9272-DA25-418E-901F-9E458FBF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763-30AF-4DD7-B3D4-0474011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C36-98C7-4813-9849-F791A068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1D4-C233-4A1B-8898-F028AE8B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D25C-06C4-43BF-960B-0979E87C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9722-87A8-49CC-92AB-EEB4AA2F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73FE-C11F-4612-B856-AA9D1F3E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C08F-A3D0-4539-9C1F-8A2FE2CC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19C3-FBA5-4E8B-B0D3-778DE4A4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3BA4-0156-48D7-BF5E-8C825F1B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2EA2-9F8E-4CDB-80D3-A357E1BC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3E2-FBDD-4E6A-A3F3-A31DE16D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04F6-A265-48C4-8FEA-AE5EFD7E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936C-A23C-47F9-848E-E3506FFF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1C2D-B613-42EF-932F-1214078D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7C40-4E4E-4032-A9A3-F8D4FF63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2ACD-E54E-4E16-BEFC-33DE040E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2DE-C0D6-48FA-BC7C-EB307CD8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D5B-92AF-4A89-887C-841800EF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41E-3A19-4480-83BC-191401C5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A55-EC84-4EAC-9327-CB444B9B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A28-A814-4821-AD9C-1C62EDFA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261-EF9C-49FE-B788-26D0B9DC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8EB1-8204-4405-9450-5AD9E561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40C9-FA71-4162-ACB0-546BEE0122D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F9C5-1849-46D7-BB1F-62E10ECA0FE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saimperial.net/pics/Mexican%2520Flag%25201st%2520Empire.gif&amp;imgrefurl=http://www.casaimperial.net/pictures.htm&amp;usg=__QK7xiHTaRjXaAMWgmm87ecdfQ7c=&amp;h=442&amp;w=595&amp;sz=25&amp;hl=en&amp;start=3&amp;um=1&amp;itbs=1&amp;tbnid=PiXK3zN4QNKGUM:&amp;tbnh=100&amp;tbnw=135&amp;prev=/images%3Fq%3Dmexico%2Bflag%26um%3D1%26hl%3Den%26safe%3Dactive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flagsandanthems.com/media/flags/flag-cuba.gif&amp;imgrefurl=http://flagsandanthems.com/flag-cuba.html&amp;usg=__USWll0hPHNZ5qYXmjwBWGr5XyBM=&amp;h=333&amp;w=500&amp;sz=4&amp;hl=en&amp;start=2&amp;um=1&amp;itbs=1&amp;tbnid=wk-O8QhitCHx_M:&amp;tbnh=87&amp;tbnw=130&amp;prev=/images%3Fq%3Dcuba%2Bflag%26um%3D1%26hl%3Den%26safe%3Dactive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i722.photobucket.com/albums/ww228/UMassMedia/Spanish%2520Images/spain-flag.gif&amp;imgrefurl=http://media.photobucket.com/image/spanish%2520flag/UMassMedia/Spanish%2520Images/spain-flag.gif%3Fo%3D100%26co%3D10&amp;usg=__kYy6WFR9XmFuvsQV_ZSxf_z3E-8=&amp;h=302&amp;w=453&amp;sz=6&amp;hl=en&amp;start=3&amp;um=1&amp;itbs=1&amp;tbnid=PD4dXmxHBB9IOM:&amp;tbnh=85&amp;tbnw=127&amp;prev=/images%3Fq%3Dflag%2Bof%2Bspain%26um%3D1%26hl%3Den%26safe%3Dactive%26sa%3DG%26tbs%3Disch: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372.photobucket.com/albums/oo170/Pedro07_2008/fc_barcelona_logo.jpg&amp;imgrefurl=http://cgi.ebay.com/Youth-Barcelona-Soccer-Jersey-LYCRA-BARCA-Jersey-Small-/300366883145&amp;usg=__7u3Ob4vIJm16zahlOflYgdvVhSQ=&amp;h=320&amp;w=316&amp;sz=10&amp;hl=en&amp;start=1&amp;um=1&amp;itbs=1&amp;tbnid=a7l-8PXJSy-qrM:&amp;tbnh=118&amp;tbnw=117&amp;prev=/images%3Fq%3Dbarcelona%2Bsoccer%2Blogo%26um%3D1%26hl%3Den%26safe%3Dactive%26tbs%3Disch:1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obinchung.com/articles/articles/top5/top-5-richest-football-clubs/real_madrid_logo.jpg.jpeg&amp;imgrefurl=http://www.robinchung.com/articles/articles/top5/top-5-richest-football-clubs/top-5-richest-clubs.html&amp;usg=__cFhFNauQAc_PRekihBmrYL7yF-E=&amp;h=310&amp;w=310&amp;sz=20&amp;hl=en&amp;start=10&amp;um=1&amp;itbs=1&amp;tbnid=m0QYrCHvOvSZ8M:&amp;tbnh=117&amp;tbnw=117&amp;prev=/images%3Fq%3Dreal%2Bmadrid%26um%3D1%26hl%3Den%26safe%3Dactive%26tbs%3Disch:1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Magneto"/>
              </a:rPr>
              <a:t>Las classes de espanol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Jaime y Henr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as Bande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xico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ndura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lombi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stados Unido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uerto Ric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span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ru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genti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ub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il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nezuel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800600"/>
            <a:ext cx="2514600" cy="1862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8520" y="4876920"/>
            <a:ext cx="2457360" cy="1644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572000"/>
            <a:ext cx="25909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agneto"/>
              </a:rPr>
              <a:t>Los depo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utb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38862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15717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57200" y="3962520"/>
            <a:ext cx="3124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8:34:13Z</dcterms:created>
  <dc:creator>WSFCS Workstation</dc:creator>
  <dc:description/>
  <dc:language>en-US</dc:language>
  <cp:lastModifiedBy>WSFCS Workstation</cp:lastModifiedBy>
  <dcterms:modified xsi:type="dcterms:W3CDTF">2010-04-30T18:56:34Z</dcterms:modified>
  <cp:revision>3</cp:revision>
  <dc:subject/>
  <dc:title>Las classes de espanol</dc:title>
</cp:coreProperties>
</file>